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8EA-252A-4220-94D4-9505A43E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20B-2EFC-4FBC-938C-CA021340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8BB-B6D9-480D-A760-367CEAF8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038-3B4B-4B7B-8188-D0B99263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15F24-0469-4484-89FB-F43020EE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904AD-418C-4BA3-975E-D2A7D6D1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53F25-3C42-4199-A793-9F067B9D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CAC49-C7A2-4906-8174-2225C68B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0F5A-C0E2-4BFA-8B85-6C6AE02B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ABD69-3287-4B6D-8D58-F6A93B3E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45CC0-E178-40E0-84AC-08D8281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999-3221-4FFE-AE62-8482C45E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52EB5-D064-4DB0-BEBB-BB5598A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354BB-535B-4864-B8A3-25AECE5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3525D-527D-4359-A287-DCB4CAD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B1728-27F6-4FD4-8454-1A976F56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4948E-54F3-4CEA-823F-525B325B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50A-61FC-4D6C-B7E6-E963378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D92-E30B-4E54-9823-A9E4717D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67D-D4F6-4820-A62D-95F9A9B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B5C-2457-4FBA-ABD8-6F0D0CD3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183-ACA1-4A22-A6D6-BE6A77F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49E-0B70-4628-BE9A-B4E099A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D599-D8D1-4941-954A-BA94AF9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4733-AC64-451C-950B-8D3B5B002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9997b8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6765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8b89af"/>
                </a:gs>
                <a:gs pos="100000">
                  <a:srgbClr val="6765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6765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7AF-0851-491F-A2C0-CA9CD72D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aps.google.com/maps?hl=en&amp;q=hawaii+map&amp;um=1&amp;ie=UTF-8&amp;split=0&amp;gl=us&amp;sa=X&amp;oi=geocode_result&amp;resnum=1&amp;ct=image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Hawaii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terra Wal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Beautiful Beache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32767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e Beach to the right is one of the most beautiful beaches in Honolulu Hawaii. Its far from traffic and is pet frien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reat Location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3429000"/>
            <a:ext cx="4572000" cy="31240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Bradley Hand ITC"/>
              </a:rPr>
              <a:t>This is an overview map of Hawa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af"/>
                </a:solidFill>
                <a:latin typeface="Bradley Hand ITC"/>
              </a:rPr>
              <a:t>Mapped, Hawaii may appear to be small, but what the beaches have to offer is plenty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1480" y="2209680"/>
            <a:ext cx="373392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ctivities 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ing on side w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ke r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ut on the northern side of 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er eve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d w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e st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7659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01:46Z</dcterms:created>
  <dc:creator>762703</dc:creator>
  <dc:description/>
  <dc:language>en-US</dc:language>
  <cp:lastModifiedBy>762703</cp:lastModifiedBy>
  <dcterms:modified xsi:type="dcterms:W3CDTF">2009-01-23T17:00:39Z</dcterms:modified>
  <cp:revision>3</cp:revision>
  <dc:subject/>
  <dc:title>Hawaii</dc:title>
</cp:coreProperties>
</file>